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7.gif" ContentType="image/gif"/>
  <Override PartName="/ppt/media/image1.jpeg" ContentType="image/jpeg"/>
  <Override PartName="/ppt/media/image2.png" ContentType="image/pn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gif" ContentType="image/gif"/>
  <Override PartName="/ppt/media/image9.png" ContentType="image/png"/>
  <Override PartName="/ppt/media/image14.jpeg" ContentType="image/jpe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892-8943-4EE3-874B-4C860AB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DEB-1083-469D-AC66-32BFF747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355-168D-43FB-B510-33963B81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B76-49FB-49CA-BE22-58CBB03F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4FB1-29FE-41B0-8CA9-F52B822B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3D2-179B-44CE-AF50-5860A164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A6A-91C8-4255-B2E5-959F2EF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44B-DA51-4BC1-A70F-1EB1787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E0B0-EC20-457A-B8D4-17AC80E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9DC-DB8A-4FF6-A99C-38D02A3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7FF7-E454-4B1D-BD91-ACADE82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1D1-6DE8-4524-95AA-8E98037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79E-66E5-4E04-BEBE-0594C49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1044-BBBE-4C32-B30D-82F6BA0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93E-3240-4CC4-8CD2-91C4047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816-77C8-44B3-A321-C1E71A9A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3EB-98EC-435C-8D3E-6048DCBE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2FB-9A55-421E-A97E-EFC3233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AE1-95FB-4419-A2B1-76E45783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6BA-7379-43AB-9156-E469DEC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571-39F5-4544-89D4-29D4479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5A8-A44A-4570-8067-E10C1AA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493-5E45-4D81-AB5A-34F62F5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329-3C00-4871-8DE0-E477327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6602-A531-43DB-BBC9-CB8AF071A2A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D858-B961-49BE-9FB8-9B81C5DDECF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97876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ul and Mat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14" descr="http://www.glogster.com/media/2/3/86/14/3861484.jpg"/>
          <p:cNvPicPr/>
          <p:nvPr/>
        </p:nvPicPr>
        <p:blipFill>
          <a:blip r:embed="rId2"/>
          <a:stretch/>
        </p:blipFill>
        <p:spPr>
          <a:xfrm>
            <a:off x="1600200" y="3581280"/>
            <a:ext cx="5867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28600" y="1219320"/>
          <a:ext cx="8686800" cy="3809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OL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eeps it shape, particles arranged in pattern  (rig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akes the shape of what you put it in, particles are close together but not arranged (less rig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verfills and moves out of container , particles not arranged (loos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ard to change shape (will not compress, little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t easy to compress (little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n compress (lots of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es not flow (particles do not slide past each oth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lows easy (particles slide past each oth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rticles vibrate and move at high speed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14" descr="gas.gif"/>
          <p:cNvPicPr/>
          <p:nvPr/>
        </p:nvPicPr>
        <p:blipFill>
          <a:blip r:embed="rId2"/>
          <a:stretch/>
        </p:blipFill>
        <p:spPr>
          <a:xfrm>
            <a:off x="6095880" y="51055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liquid.gif"/>
          <p:cNvPicPr/>
          <p:nvPr/>
        </p:nvPicPr>
        <p:blipFill>
          <a:blip r:embed="rId3"/>
          <a:stretch/>
        </p:blipFill>
        <p:spPr>
          <a:xfrm>
            <a:off x="3200400" y="51055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solid.gif"/>
          <p:cNvPicPr/>
          <p:nvPr/>
        </p:nvPicPr>
        <p:blipFill>
          <a:blip r:embed="rId4"/>
          <a:stretch/>
        </p:blipFill>
        <p:spPr>
          <a:xfrm>
            <a:off x="304920" y="510552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ce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s a regular sha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rd to comp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es not flo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eps shape if maintained below freezing tempera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4" descr="statesofmatter.gif"/>
          <p:cNvPicPr/>
          <p:nvPr/>
        </p:nvPicPr>
        <p:blipFill>
          <a:blip r:embed="rId2"/>
          <a:srcRect l="0" t="16956" r="67004" b="12009"/>
          <a:stretch/>
        </p:blipFill>
        <p:spPr>
          <a:xfrm>
            <a:off x="6629400" y="228600"/>
            <a:ext cx="1638360" cy="228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ce-cubes.jpg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ater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s shape of what it is poured int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rd to comp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lows easi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eps shape in contain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7" descr="statesofmatter.gif"/>
          <p:cNvPicPr/>
          <p:nvPr/>
        </p:nvPicPr>
        <p:blipFill>
          <a:blip r:embed="rId2"/>
          <a:srcRect l="38004" t="12929" r="26004" b="9850"/>
          <a:stretch/>
        </p:blipFill>
        <p:spPr>
          <a:xfrm>
            <a:off x="6553080" y="233280"/>
            <a:ext cx="1752840" cy="243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water.jpg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ater Vapor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es not take a definite sha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be compres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lows easi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ves out or escapes contain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statesofmatter.gif"/>
          <p:cNvPicPr/>
          <p:nvPr/>
        </p:nvPicPr>
        <p:blipFill>
          <a:blip r:embed="rId2"/>
          <a:srcRect l="80006" t="0" r="0" b="6756"/>
          <a:stretch/>
        </p:blipFill>
        <p:spPr>
          <a:xfrm>
            <a:off x="6705720" y="228600"/>
            <a:ext cx="761760" cy="23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louds.jpg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phase changes.jpg"/>
          <p:cNvPicPr/>
          <p:nvPr/>
        </p:nvPicPr>
        <p:blipFill>
          <a:blip r:embed="rId2"/>
          <a:stretch/>
        </p:blipFill>
        <p:spPr>
          <a:xfrm>
            <a:off x="914400" y="1214280"/>
            <a:ext cx="72388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3:21:19Z</dcterms:created>
  <dc:creator>pmichalski</dc:creator>
  <dc:description/>
  <dc:language>en-US</dc:language>
  <cp:lastModifiedBy>pmichalski</cp:lastModifiedBy>
  <dcterms:modified xsi:type="dcterms:W3CDTF">2010-11-09T14:29:31Z</dcterms:modified>
  <cp:revision>19</cp:revision>
  <dc:subject/>
  <dc:title>States of matter and Phase changes</dc:title>
</cp:coreProperties>
</file>